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ECE4-D8E0-4EDD-B36B-23D27197D1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E4D3-FF0E-422D-8DC7-A5BC2B80BE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DC2D-D065-49C7-B171-60378B94FF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F890-2082-46E8-BFB3-4696026891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B7D9-10D1-47B3-AE12-7E3550F0C7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0A13-42D3-4357-88D0-12713504D3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43A4-0706-4305-8F7F-657FCAABDA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D29B-F627-463F-A23F-BF6940BAD4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4402-B71F-4B33-88E0-319806411C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AD81-A62D-4140-9B9F-7275435FDA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B485-14AF-4367-8660-6162F95B12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C6A1-F9FB-4A80-BD3A-075AE64F92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71AA-B702-4F15-ACD3-B2BE9435CD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F3E8-FF31-4DED-8224-4EEC3A6701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E58F-4294-425B-967E-05284921D4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6F69-979B-4F1F-8D15-5C689E1B5E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EA95-0675-493C-B9BA-7458128F93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2FE9-BAB9-491B-8A9F-DAE04C6264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Credi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AutoShape 13">
            <a:hlinkClick r:id="" action="ppaction://hlinkshowjump?jump=firstslide"/>
          </p:cNvPr>
          <p:cNvSpPr/>
          <p:nvPr/>
        </p:nvSpPr>
        <p:spPr>
          <a:xfrm>
            <a:off x="765648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14">
            <a:hlinkClick r:id="" action="ppaction://hlinkshowjump?jump=nextslide"/>
          </p:cNvPr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15">
            <a:hlinkClick r:id="" action="ppaction://hlinkshowjump?jump=endshow"/>
          </p:cNvPr>
          <p:cNvSpPr/>
          <p:nvPr/>
        </p:nvSpPr>
        <p:spPr>
          <a:xfrm>
            <a:off x="8344080" y="6019920"/>
            <a:ext cx="533160" cy="8380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45">
                <a:moveTo>
                  <a:pt x="0" y="0"/>
                </a:moveTo>
                <a:lnTo>
                  <a:pt x="21600" y="0"/>
                </a:lnTo>
                <a:lnTo>
                  <a:pt x="21600" y="33945"/>
                </a:lnTo>
                <a:lnTo>
                  <a:pt x="0" y="33945"/>
                </a:lnTo>
                <a:close/>
              </a:path>
              <a:path fill="lightenLess" w="21600" h="33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45">
                <a:moveTo>
                  <a:pt x="21600" y="0"/>
                </a:moveTo>
                <a:lnTo>
                  <a:pt x="21600" y="33945"/>
                </a:lnTo>
                <a:lnTo>
                  <a:pt x="20200" y="32545"/>
                </a:lnTo>
                <a:lnTo>
                  <a:pt x="20200" y="1400"/>
                </a:lnTo>
                <a:close/>
              </a:path>
              <a:path fill="darkenLess" w="21600" h="33945">
                <a:moveTo>
                  <a:pt x="21600" y="33945"/>
                </a:moveTo>
                <a:lnTo>
                  <a:pt x="0" y="33945"/>
                </a:lnTo>
                <a:lnTo>
                  <a:pt x="1400" y="32545"/>
                </a:lnTo>
                <a:lnTo>
                  <a:pt x="20200" y="32545"/>
                </a:lnTo>
                <a:close/>
              </a:path>
              <a:path fill="lighten" w="21600" h="33945">
                <a:moveTo>
                  <a:pt x="0" y="33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16">
            <a:hlinkClick r:id="" action="ppaction://hlinkshowjump?jump=previousslide"/>
          </p:cNvPr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17">
            <a:hlinkClick r:id="rId3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0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Workshop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9880" y="1754280"/>
            <a:ext cx="777060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Assign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Prewrit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Choose an Issu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State Your Posi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 action="ppaction://hlinksldjump"/>
              </a:rPr>
              <a:t>Consider Your Purpose and Audie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7" action="ppaction://hlinksldjump"/>
              </a:rPr>
              <a:t>Support Your Opin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8" action="ppaction://hlinksldjump"/>
              </a:rPr>
              <a:t>Organize Your Essa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9" action="ppaction://hlinksldjump"/>
              </a:rPr>
              <a:t>Practice and Appl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6">
            <a:hlinkClick r:id="" action="ppaction://hlinkshowjump?jump=endshow"/>
          </p:cNvPr>
          <p:cNvSpPr/>
          <p:nvPr/>
        </p:nvSpPr>
        <p:spPr>
          <a:xfrm>
            <a:off x="754380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7">
            <a:hlinkClick r:id="" action="ppaction://hlinkshowjump?jump=endshow"/>
          </p:cNvPr>
          <p:cNvSpPr/>
          <p:nvPr/>
        </p:nvSpPr>
        <p:spPr>
          <a:xfrm>
            <a:off x="609588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28480" y="1370160"/>
            <a:ext cx="79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reate a chart listing your reasons and evidenc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8318520" y="1633680"/>
            <a:ext cx="133200" cy="8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533520" y="2050920"/>
          <a:ext cx="8076960" cy="347508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371600" indent="-1371600"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Opinion: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  Software for sharing personal files across the internet should remain legal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Reaso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viden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23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Although file-sharing software is sometimes used to illegally share copyrighted music, it also has many legal, practical use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Fact: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 People use file-sharing software to share photo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Analogy: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 Making file-sharing software illegal would be like outlawing baseball bats because they might be used as weapon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39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Organize Your Essay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28480" y="137484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range your reasons i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order of importance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28480" y="2503440"/>
            <a:ext cx="3679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Grab the audience’s attention immediatel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28480" y="4478400"/>
            <a:ext cx="3684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eave a powerful last impress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8167680" y="16160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11" name="Line 13"/>
          <p:cNvSpPr/>
          <p:nvPr/>
        </p:nvSpPr>
        <p:spPr>
          <a:xfrm>
            <a:off x="4371840" y="2381400"/>
            <a:ext cx="1067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502240" y="2498760"/>
            <a:ext cx="31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egin with the strongest reas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5502240" y="4484520"/>
            <a:ext cx="31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ut the strongest reason las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4219560" y="2921040"/>
            <a:ext cx="108576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4229280" y="4900680"/>
            <a:ext cx="108576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528480" y="404028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Option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28480" y="205416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Option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2"/>
          <a:stretch/>
        </p:blipFill>
        <p:spPr>
          <a:xfrm>
            <a:off x="8413920" y="311796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 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Practice and Apply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3520" y="13701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oose an issue for your persuasive essay, state your position, and gather and organize reasons and evidence to support your opin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58720" y="141444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98116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5867280" y="6019920"/>
            <a:ext cx="1719360" cy="838080"/>
          </a:xfrm>
          <a:custGeom>
            <a:avLst/>
            <a:gdLst>
              <a:gd name="textAreaLeft" fmla="*/ 54000 w 1719360"/>
              <a:gd name="textAreaRight" fmla="*/ 1665360 w 1719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4304" h="21600">
                <a:moveTo>
                  <a:pt x="0" y="0"/>
                </a:moveTo>
                <a:lnTo>
                  <a:pt x="44304" y="0"/>
                </a:lnTo>
                <a:lnTo>
                  <a:pt x="44304" y="21600"/>
                </a:lnTo>
                <a:lnTo>
                  <a:pt x="0" y="21600"/>
                </a:lnTo>
                <a:close/>
              </a:path>
              <a:path fill="lightenLess" w="44304" h="21600">
                <a:moveTo>
                  <a:pt x="0" y="0"/>
                </a:moveTo>
                <a:lnTo>
                  <a:pt x="44304" y="0"/>
                </a:lnTo>
                <a:lnTo>
                  <a:pt x="42904" y="1400"/>
                </a:lnTo>
                <a:lnTo>
                  <a:pt x="1400" y="1400"/>
                </a:lnTo>
                <a:close/>
              </a:path>
              <a:path fill="darken" w="44304" h="21600">
                <a:moveTo>
                  <a:pt x="44304" y="0"/>
                </a:moveTo>
                <a:lnTo>
                  <a:pt x="44304" y="21600"/>
                </a:lnTo>
                <a:lnTo>
                  <a:pt x="42904" y="20200"/>
                </a:lnTo>
                <a:lnTo>
                  <a:pt x="42904" y="1400"/>
                </a:lnTo>
                <a:close/>
              </a:path>
              <a:path fill="darkenLess" w="44304" h="21600">
                <a:moveTo>
                  <a:pt x="4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04" y="20200"/>
                </a:lnTo>
                <a:close/>
              </a:path>
              <a:path fill="lighten" w="4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528480" y="137016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unterarguments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an also be calle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unterclaim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Consider Your Purpose and Audience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528480" y="137016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Ethical appeal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rely on commonly accepted beliefs or values. For example, honesty and fairness are values that most people accept as worthwhil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28480" y="3019320"/>
            <a:ext cx="77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riters often use ethical appeals to establish that they ar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redible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trustworth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2600280" y="273528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528480" y="137016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Your teacher may want you to include more logical appeals than emotional or ethical appeals in your essa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590400" cy="339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7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528480" y="137016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Gathering Evide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ovide at least two pieces of evidence for each of your reason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0280" y="4100400"/>
            <a:ext cx="366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terview local experts on your issu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0" descr=""/>
          <p:cNvPicPr/>
          <p:nvPr/>
        </p:nvPicPr>
        <p:blipFill>
          <a:blip r:embed="rId2"/>
          <a:stretch/>
        </p:blipFill>
        <p:spPr>
          <a:xfrm>
            <a:off x="2895480" y="25192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"/>
          <p:cNvPicPr/>
          <p:nvPr/>
        </p:nvPicPr>
        <p:blipFill>
          <a:blip r:embed="rId3"/>
          <a:stretch/>
        </p:blipFill>
        <p:spPr>
          <a:xfrm>
            <a:off x="4194000" y="38019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3" descr="107089.JPG"/>
          <p:cNvPicPr/>
          <p:nvPr/>
        </p:nvPicPr>
        <p:blipFill>
          <a:blip r:embed="rId4"/>
          <a:srcRect l="0" t="17520" r="0" b="15846"/>
          <a:stretch/>
        </p:blipFill>
        <p:spPr>
          <a:xfrm>
            <a:off x="4724280" y="2522520"/>
            <a:ext cx="1683000" cy="1120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" descr="AA053436.JPG"/>
          <p:cNvPicPr/>
          <p:nvPr/>
        </p:nvPicPr>
        <p:blipFill>
          <a:blip r:embed="rId5"/>
          <a:srcRect l="0" t="17520" r="0" b="14173"/>
          <a:stretch/>
        </p:blipFill>
        <p:spPr>
          <a:xfrm>
            <a:off x="4724280" y="4724280"/>
            <a:ext cx="1683000" cy="115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5" descr=""/>
          <p:cNvPicPr/>
          <p:nvPr/>
        </p:nvPicPr>
        <p:blipFill>
          <a:blip r:embed="rId6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9" name="AutoShape 49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50"/>
          <p:cNvSpPr/>
          <p:nvPr/>
        </p:nvSpPr>
        <p:spPr>
          <a:xfrm>
            <a:off x="528480" y="2822400"/>
            <a:ext cx="366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earch your issue at the library or on the Interne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51" descr="c04wri006"/>
          <p:cNvPicPr/>
          <p:nvPr/>
        </p:nvPicPr>
        <p:blipFill>
          <a:blip r:embed="rId7"/>
          <a:stretch/>
        </p:blipFill>
        <p:spPr>
          <a:xfrm>
            <a:off x="6068880" y="3198960"/>
            <a:ext cx="2543400" cy="1742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13716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ssignment: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Write a persuasive essay on an issue about which you have a strong opin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530440"/>
            <a:ext cx="8076960" cy="2125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Sometimes the most powerful way to make a difference is to change people’s minds. What issues are important to you? What laws or public practices are you for or against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urn your opinion into action by persuading readers to see things your way.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27840" y="1951200"/>
            <a:ext cx="133560" cy="88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Choose an Issue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28480" y="137016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ssu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omething about which people have opposing opinions. Choose an issue about which you feel strongly. To find an issue,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8480" y="2655720"/>
            <a:ext cx="51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atch television news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hows for information about current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528480" y="3938760"/>
            <a:ext cx="49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rainstorm with classmates about issues that affect your school or commun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9" descr=""/>
          <p:cNvPicPr/>
          <p:nvPr/>
        </p:nvPicPr>
        <p:blipFill>
          <a:blip r:embed="rId1"/>
          <a:stretch/>
        </p:blipFill>
        <p:spPr>
          <a:xfrm>
            <a:off x="6143760" y="23130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"/>
          <p:cNvPicPr/>
          <p:nvPr/>
        </p:nvPicPr>
        <p:blipFill>
          <a:blip r:embed="rId2"/>
          <a:stretch/>
        </p:blipFill>
        <p:spPr>
          <a:xfrm>
            <a:off x="3419640" y="35989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2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2" descr="c04wri001"/>
          <p:cNvPicPr/>
          <p:nvPr/>
        </p:nvPicPr>
        <p:blipFill>
          <a:blip r:embed="rId3"/>
          <a:stretch/>
        </p:blipFill>
        <p:spPr>
          <a:xfrm>
            <a:off x="6095880" y="2752560"/>
            <a:ext cx="254340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57"/>
          <p:cNvSpPr/>
          <p:nvPr/>
        </p:nvSpPr>
        <p:spPr>
          <a:xfrm>
            <a:off x="2786040" y="3191040"/>
            <a:ext cx="5302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oftware for sharing personal files across the internet should remain leg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33520" y="1371600"/>
            <a:ext cx="80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rite a focuse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opinion statemen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at names the issue and states your position on i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tate Your Posit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70" name="Picture 154" descr=""/>
          <p:cNvPicPr/>
          <p:nvPr/>
        </p:nvPicPr>
        <p:blipFill>
          <a:blip r:embed="rId1"/>
          <a:stretch/>
        </p:blipFill>
        <p:spPr>
          <a:xfrm>
            <a:off x="6924600" y="1962000"/>
            <a:ext cx="133560" cy="889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81"/>
          <p:cNvGrpSpPr/>
          <p:nvPr/>
        </p:nvGrpSpPr>
        <p:grpSpPr>
          <a:xfrm>
            <a:off x="730080" y="3180960"/>
            <a:ext cx="1941480" cy="717480"/>
            <a:chOff x="730080" y="3180960"/>
            <a:chExt cx="1941480" cy="717480"/>
          </a:xfrm>
        </p:grpSpPr>
        <p:sp>
          <p:nvSpPr>
            <p:cNvPr id="72" name="Text Box 144"/>
            <p:cNvSpPr/>
            <p:nvPr/>
          </p:nvSpPr>
          <p:spPr>
            <a:xfrm>
              <a:off x="730080" y="3303720"/>
              <a:ext cx="164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Issue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AutoShape 178"/>
            <p:cNvSpPr/>
            <p:nvPr/>
          </p:nvSpPr>
          <p:spPr>
            <a:xfrm rot="10800000">
              <a:off x="2391840" y="3180960"/>
              <a:ext cx="279720" cy="717480"/>
            </a:xfrm>
            <a:custGeom>
              <a:avLst/>
              <a:gdLst>
                <a:gd name="textAreaLeft" fmla="*/ 0 w 279720"/>
                <a:gd name="textAreaRight" fmla="*/ 100800 w 279720"/>
                <a:gd name="textAreaTop" fmla="*/ 18720 h 717480"/>
                <a:gd name="textAreaBottom" fmla="*/ 6987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43"/>
                  </a:lnTo>
                  <a:cubicBezTo>
                    <a:pt x="10800" y="9643"/>
                    <a:pt x="16200" y="10543"/>
                    <a:pt x="21600" y="10543"/>
                  </a:cubicBezTo>
                  <a:cubicBezTo>
                    <a:pt x="16200" y="10543"/>
                    <a:pt x="10800" y="11443"/>
                    <a:pt x="10800" y="1234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" name="Group 182"/>
          <p:cNvGrpSpPr/>
          <p:nvPr/>
        </p:nvGrpSpPr>
        <p:grpSpPr>
          <a:xfrm>
            <a:off x="728640" y="3976560"/>
            <a:ext cx="1928520" cy="457200"/>
            <a:chOff x="728640" y="3976560"/>
            <a:chExt cx="1928520" cy="457200"/>
          </a:xfrm>
        </p:grpSpPr>
        <p:sp>
          <p:nvSpPr>
            <p:cNvPr id="75" name="Text Box 146"/>
            <p:cNvSpPr/>
            <p:nvPr/>
          </p:nvSpPr>
          <p:spPr>
            <a:xfrm>
              <a:off x="728640" y="3976560"/>
              <a:ext cx="164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Position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AutoShape 179"/>
            <p:cNvSpPr/>
            <p:nvPr/>
          </p:nvSpPr>
          <p:spPr>
            <a:xfrm rot="10800000">
              <a:off x="2388960" y="4022640"/>
              <a:ext cx="268200" cy="355680"/>
            </a:xfrm>
            <a:custGeom>
              <a:avLst/>
              <a:gdLst>
                <a:gd name="textAreaLeft" fmla="*/ 0 w 268200"/>
                <a:gd name="textAreaRight" fmla="*/ 96840 w 268200"/>
                <a:gd name="textAreaTop" fmla="*/ 9000 h 355680"/>
                <a:gd name="textAreaBottom" fmla="*/ 346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43"/>
                  </a:lnTo>
                  <a:cubicBezTo>
                    <a:pt x="10800" y="9643"/>
                    <a:pt x="16200" y="10543"/>
                    <a:pt x="21600" y="10543"/>
                  </a:cubicBezTo>
                  <a:cubicBezTo>
                    <a:pt x="16200" y="10543"/>
                    <a:pt x="10800" y="11443"/>
                    <a:pt x="10800" y="1234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" name="Text Box 180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Consider Your Purpose and Audience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28480" y="137016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urpo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convince others to share your opinion or to take the action you recommen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42" descr="c04wri002"/>
          <p:cNvPicPr/>
          <p:nvPr/>
        </p:nvPicPr>
        <p:blipFill>
          <a:blip r:embed="rId1"/>
          <a:stretch/>
        </p:blipFill>
        <p:spPr>
          <a:xfrm>
            <a:off x="2533680" y="327672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Consider Your Purpose and Audience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28480" y="2820960"/>
            <a:ext cx="7785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nk about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biases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prejudices, your audience might have. Be prepared to address any objections, or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1" action="ppaction://hlinksldjump"/>
              </a:rPr>
              <a:t>counterarguments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0280" y="1370160"/>
            <a:ext cx="808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udie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nsider your audience’s concerns and expectation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28" descr=""/>
          <p:cNvPicPr/>
          <p:nvPr/>
        </p:nvPicPr>
        <p:blipFill>
          <a:blip r:embed="rId2"/>
          <a:stretch/>
        </p:blipFill>
        <p:spPr>
          <a:xfrm>
            <a:off x="2822400" y="250812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528480" y="4097160"/>
            <a:ext cx="778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ovide a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rgumen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at includes solid reasons supported by evidenc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32" descr=""/>
          <p:cNvPicPr/>
          <p:nvPr/>
        </p:nvPicPr>
        <p:blipFill>
          <a:blip r:embed="rId3"/>
          <a:stretch/>
        </p:blipFill>
        <p:spPr>
          <a:xfrm>
            <a:off x="7389720" y="37749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3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Give strong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eason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o support your opinion statement. Include thes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hetorical devic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7969320" y="1963800"/>
            <a:ext cx="133200" cy="8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533520" y="2478240"/>
          <a:ext cx="8076960" cy="2712960"/>
        </p:xfrm>
        <a:graphic>
          <a:graphicData uri="http://schemas.openxmlformats.org/drawingml/2006/table">
            <a:tbl>
              <a:tblPr/>
              <a:tblGrid>
                <a:gridCol w="3166920"/>
                <a:gridCol w="49100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Rhetorical Devic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Logical Appeal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ppeal to reason and speak to readers’ common sens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motional Appeal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peak to readers’ emotions, such as sympathy, fear, and hop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thical Appeal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ppeal to readers’ ethics, or moral valu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pic>
        <p:nvPicPr>
          <p:cNvPr id="92" name="Picture 54" descr=""/>
          <p:cNvPicPr/>
          <p:nvPr/>
        </p:nvPicPr>
        <p:blipFill>
          <a:blip r:embed="rId2"/>
          <a:stretch/>
        </p:blipFill>
        <p:spPr>
          <a:xfrm>
            <a:off x="533520" y="560232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8"/>
          <p:cNvSpPr/>
          <p:nvPr/>
        </p:nvSpPr>
        <p:spPr>
          <a:xfrm>
            <a:off x="533520" y="44956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28480" y="13701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ovid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vid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o support your reason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"/>
          <a:stretch/>
        </p:blipFill>
        <p:spPr>
          <a:xfrm>
            <a:off x="7458120" y="1595520"/>
            <a:ext cx="133200" cy="8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33520" y="1922400"/>
          <a:ext cx="8076960" cy="3048120"/>
        </p:xfrm>
        <a:graphic>
          <a:graphicData uri="http://schemas.openxmlformats.org/drawingml/2006/table">
            <a:tbl>
              <a:tblPr/>
              <a:tblGrid>
                <a:gridCol w="2052360"/>
                <a:gridCol w="602460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Kinds of Evidenc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Fac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information that can be proven true; some facts are in the form of 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tatistics,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 or numerical inform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xampl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pecific instances of an idea or situ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xpert opinio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tatements (either 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quotations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 or 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paraphrases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) by people who are considered experts on the issu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434960"/>
          <a:ext cx="8076960" cy="3048120"/>
        </p:xfrm>
        <a:graphic>
          <a:graphicData uri="http://schemas.openxmlformats.org/drawingml/2006/table">
            <a:tbl>
              <a:tblPr/>
              <a:tblGrid>
                <a:gridCol w="2066760"/>
                <a:gridCol w="601020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Kinds of Evidenc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nalogi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comparisons that show the similarities between two otherwise unrelated facts or idea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Case studi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xamples from scientific studi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necdot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brief, personal stories that illustrate a poin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25"/>
          <p:cNvSpPr/>
          <p:nvPr/>
        </p:nvSpPr>
        <p:spPr>
          <a:xfrm>
            <a:off x="533520" y="5640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Gathering evide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1:43:20Z</dcterms:created>
  <dc:creator>Sandra Wolfgang</dc:creator>
  <dc:description/>
  <dc:language>en-US</dc:language>
  <cp:lastModifiedBy>Dan Olsen</cp:lastModifiedBy>
  <cp:lastPrinted>2004-12-14T19:41:04Z</cp:lastPrinted>
  <dcterms:modified xsi:type="dcterms:W3CDTF">2012-01-11T16:10:00Z</dcterms:modified>
  <cp:revision>633</cp:revision>
  <dc:subject/>
  <dc:title>Grade 9 WW Coll. 5</dc:title>
</cp:coreProperties>
</file>